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22C9-1E76-471F-A1EB-C555D8A3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35E2-4C53-4E74-8FDD-16A1E49A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184F-FA3D-44E2-8860-6468A5EAD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3648-5205-4A71-9FC7-036C7D9B1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078D-FFA2-40B3-A896-247FB9D2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6468-8197-442C-A136-FBB39743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3F23-8D8A-4E2F-9D44-18324863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EA30-4B0F-4647-B661-EE9864C2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F4BD-28BA-4029-9F51-4C9B42EE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A013-F352-40A7-B59A-31CD1A56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03F7-FE18-4C55-B722-F100442F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4566-75B5-4C31-B24E-87A28314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7CBE-770F-4356-A93A-151907B03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porate Knowled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34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ember When Shar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s B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of us recall a not-so-distant time when sharing knowledge with other employees was not encourag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employees learned in spite of the culture, not because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havior behind this culture is called “knowledge hoard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69343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6777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ledge Ho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as a big part of the culture of the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ly driven by classification, compartmentation, and need-to-know concerns, but also by the personnel evaluation systems of the 70s and 80s that rewarded unique skills and knowledge in indiv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60199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>
            <a:off x="69343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6448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Was Knowled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arding So B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reas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point of expertise/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al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s died or retired with their subject matter experts (S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target expertise, based on the SME’s individual background and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hough hiring was limited at the time, it was difficult to train new employees or military transfe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8088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70102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86448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…Are We Chang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ily, we are slowly changing our corporate cultures and behavi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still LOTS of room for improvem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70102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1804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Chan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or The Bett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oring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spread recruitment and use of Adjunct Faculty for in-house training and course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tcamp training programs for new h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Intr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-sharing features on the Intranet (blogs, wikis, Google Search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79246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68580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6096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t I Am Just One Pers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, but you have stuck with me so far, so you are a person who cares what happens after you retire or leav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iors who retire are being formally debriefed to collect information that is of use or interest in building a corporate knowledg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orking-level individuals, we can also share some of the knowledge and skills that we’ve acquired during our career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70102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53302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part of this workshop, you wi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some personal Lessons L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them for Key Words and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them on our Intr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088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previousslide"/>
          </p:cNvPr>
          <p:cNvSpPr/>
          <p:nvPr/>
        </p:nvSpPr>
        <p:spPr>
          <a:xfrm>
            <a:off x="68580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6525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to Refl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remember a time when you wished you could pose a mission-related problem to the general organization and see if anyone else had ideas or insigh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idn’t you do this?  What would have been the consequ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ed with this 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up a brief history of this episode and save it as a Word file on your network dr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71629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3004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01:47:12Z</dcterms:created>
  <dc:creator>Anne Brooker-Grogan</dc:creator>
  <dc:description/>
  <dc:language>en-US</dc:language>
  <cp:lastModifiedBy>Anne Brooker-Grogan</cp:lastModifiedBy>
  <dcterms:modified xsi:type="dcterms:W3CDTF">2010-02-15T08:31:23Z</dcterms:modified>
  <cp:revision>5</cp:revision>
  <dc:subject/>
  <dc:title>Corporate Knowledge Management</dc:title>
</cp:coreProperties>
</file>